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9.wmf" ContentType="image/x-wmf"/>
  <Override PartName="/ppt/media/image6.gif" ContentType="image/gif"/>
  <Override PartName="/ppt/media/image17.wmf" ContentType="image/x-wmf"/>
  <Override PartName="/ppt/media/image5.wmf" ContentType="image/x-wmf"/>
  <Override PartName="/ppt/media/image28.wmf" ContentType="image/x-wmf"/>
  <Override PartName="/ppt/media/image25.wmf" ContentType="image/x-wmf"/>
  <Override PartName="/ppt/media/image2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.png" ContentType="image/png"/>
  <Override PartName="/ppt/media/image26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601200" cy="1508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601200" cy="150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0880" cy="75420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438880" y="-360"/>
            <a:ext cx="4160880" cy="75420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028520" y="1131840"/>
            <a:ext cx="7543800" cy="565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b">
            <a:noAutofit/>
          </a:bodyPr>
          <a:lstStyle>
            <a:lvl1pPr marL="216000"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s-E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B8868ECE-66D2-4E6B-BAA2-814245D0A930}" type="slidenum">
              <a:rPr b="0" lang="es-E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75C1C628-C416-4FB2-84F8-068C16C639EF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D4C9CA11-5127-4110-93A6-662153EA53C8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4E6C28BA-0FD9-48C6-91F5-A7B041027E02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94661621-596F-4802-8337-900374D05740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01EF0846-A103-4EB6-ACE3-B5B1AD6C3289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733D4E73-A22F-4E13-B102-1C5C8ABC1AD7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743F2C31-D351-4402-8243-94E5E1CCB28A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A77C5C1E-85D4-4B6F-8B73-55B8ADF19C8E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4D7A331C-88BE-4DFA-A741-91C9C4699E5A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D173BEF4-EB99-4E20-B789-2A8D72486025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21343EEE-64ED-4061-BA23-CB706596C8C4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D4892EB7-47C3-4DE6-9177-C9202EB19936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3B012209-53B5-4958-BA52-493227BC3900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3CC23CEC-7BC0-4FB2-B254-F9D56D1D86D0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05CB9525-4665-448B-8262-59235E8A10ED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0516312B-1053-407E-8686-C6791F80AF48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0FCF527E-DB9A-4F89-B797-A04F92863B9A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9A9CBAC1-7A15-48B3-AC7C-361E76A58EC7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6F3C5A8A-2E3B-448E-A134-50DF7656BA95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856006F6-35DF-42DD-B96D-E5F8A68C75A6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8177523B-035D-473B-8AEB-CB594054C665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B81D3D07-31A8-4EDF-9AC4-E5FBE221692A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86C78587-E9F5-4FEA-A197-F82EF975627A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FAF6DDB0-1C28-444A-99EC-DC470F504165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8DD56C44-14E4-417D-A418-804453BFF798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C2B9613A-B45D-43FD-B71E-31090D91142A}" type="slidenum">
              <a:rPr b="0" lang="es-ES" sz="19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66C-6A9D-47A9-8E1E-6F3900C3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D82-4F11-4ACF-A489-38BF4BE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3DC-1E5C-4025-8FA6-7DBD4A35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F7B-8099-4439-A9B7-F7F11847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6D6A-B738-476E-B83F-AA3DBFCB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C820-ED68-4D95-B0F6-FF413F3B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CFF-B4A5-4960-BB66-3308B39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30A8-A5AC-4C99-8C7D-FD13A206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5589-2E05-453D-B09C-C53F49AD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2589-1AE7-4724-A157-B76670D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AD47-3451-4798-92A5-C1429E1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020-BE79-4ACF-A80F-821941FF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070C-C527-422C-BF92-A2200F5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8565-953E-4748-A58F-A93F52E2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CDC-74DB-43EC-8AE5-CAF05EA9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6FC9-6685-41AC-8DBB-F980CC5D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F70B-5A1E-478E-B282-C54EEF8A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36B-DB2A-42C1-B054-F9246415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A26-EEDD-4A3D-A43F-E1DC9776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BA4-E79B-40CF-8843-955904D8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44D-D1BF-4D70-8B22-C3581EFD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4CC-05A4-4173-9745-19E692E5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C90-A533-401B-8FDB-ADA0C85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600-C125-4CFC-9E5F-792A856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391D-AC90-4E59-A801-831900A40D7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85CD-C69C-4E67-ADA2-61C7467D314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8.png"/><Relationship Id="rId3" Type="http://schemas.openxmlformats.org/officeDocument/2006/relationships/slide" Target="slide20.xml"/><Relationship Id="rId4" Type="http://schemas.openxmlformats.org/officeDocument/2006/relationships/image" Target="../media/image19.png"/><Relationship Id="rId5" Type="http://schemas.openxmlformats.org/officeDocument/2006/relationships/slide" Target="slide21.xml"/><Relationship Id="rId6" Type="http://schemas.openxmlformats.org/officeDocument/2006/relationships/image" Target="../media/image20.jpeg"/><Relationship Id="rId7" Type="http://schemas.openxmlformats.org/officeDocument/2006/relationships/slide" Target="slide23.xml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6877080" y="836640"/>
            <a:ext cx="194292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3920" y="129816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Mapa de Progreso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Moto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17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Sub. Sec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ducación Fís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6666"/>
                </a:solidFill>
                <a:latin typeface="Arial"/>
              </a:rPr>
              <a:t>Profesor : Tomás Infestas 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logo-Bello"/>
          <p:cNvPicPr/>
          <p:nvPr/>
        </p:nvPicPr>
        <p:blipFill>
          <a:blip r:embed="rId1"/>
          <a:stretch/>
        </p:blipFill>
        <p:spPr>
          <a:xfrm>
            <a:off x="7308720" y="1268280"/>
            <a:ext cx="119880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7"/>
          <p:cNvGraphicFramePr/>
          <p:nvPr/>
        </p:nvGraphicFramePr>
        <p:xfrm>
          <a:off x="1403280" y="4149720"/>
          <a:ext cx="1746360" cy="20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149720"/>
                    <a:ext cx="1746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stánd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stándares están definidos por nive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l nivel de aprendizaje no está asociado a un grado escola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MCj02332640000[1]"/>
          <p:cNvPicPr/>
          <p:nvPr/>
        </p:nvPicPr>
        <p:blipFill>
          <a:blip r:embed="rId1"/>
          <a:stretch/>
        </p:blipFill>
        <p:spPr>
          <a:xfrm>
            <a:off x="5219640" y="4724280"/>
            <a:ext cx="25671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JUEGOS%20ESCOLARES%20OVIEDO-2005%2003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ivel 1</a:t>
            </a:r>
            <a:r>
              <a:rPr b="0" lang="es-CL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1° y 2° Bás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ivel 2</a:t>
            </a:r>
            <a:r>
              <a:rPr b="0" lang="es-CL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3° y 4° Bás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ivel 3</a:t>
            </a:r>
            <a:r>
              <a:rPr b="0" lang="es-CL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5° y 6° Bás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ivel 4 </a:t>
            </a:r>
            <a:r>
              <a:rPr b="0" lang="es-CL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7° y 8° Bás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ivel 5</a:t>
            </a:r>
            <a:r>
              <a:rPr b="0" lang="es-CL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1° y 2° 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ivel 6 </a:t>
            </a:r>
            <a:r>
              <a:rPr b="0" lang="es-CL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3° 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ivel 7 </a:t>
            </a:r>
            <a:r>
              <a:rPr b="0" lang="es-CL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4° 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HAY SIETE NIVE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3"/>
          <p:cNvSpPr/>
          <p:nvPr/>
        </p:nvSpPr>
        <p:spPr>
          <a:xfrm>
            <a:off x="7093080" y="350028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AutoShape 42"/>
          <p:cNvSpPr/>
          <p:nvPr/>
        </p:nvSpPr>
        <p:spPr>
          <a:xfrm>
            <a:off x="6877080" y="3357720"/>
            <a:ext cx="720720" cy="21564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AutoShape 37"/>
          <p:cNvSpPr/>
          <p:nvPr/>
        </p:nvSpPr>
        <p:spPr>
          <a:xfrm>
            <a:off x="6948360" y="537372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36"/>
          <p:cNvSpPr/>
          <p:nvPr/>
        </p:nvSpPr>
        <p:spPr>
          <a:xfrm>
            <a:off x="7020000" y="386064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38"/>
          <p:cNvSpPr/>
          <p:nvPr/>
        </p:nvSpPr>
        <p:spPr>
          <a:xfrm>
            <a:off x="7020000" y="494172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39"/>
          <p:cNvSpPr/>
          <p:nvPr/>
        </p:nvSpPr>
        <p:spPr>
          <a:xfrm>
            <a:off x="6948360" y="515772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1620720" y="3355920"/>
            <a:ext cx="2735280" cy="2594160"/>
          </a:xfrm>
          <a:prstGeom prst="flowChartMagneticDrum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11280" y="765000"/>
            <a:ext cx="829152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lementos Constituyentes de los Map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3276720" y="3357720"/>
            <a:ext cx="2808000" cy="2592360"/>
          </a:xfrm>
          <a:prstGeom prst="flowChartMagneticDrum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55640" y="62308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KIN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6588000" y="6230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4° MED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5076720" y="3357720"/>
            <a:ext cx="2230560" cy="2593800"/>
          </a:xfrm>
          <a:prstGeom prst="flowChartMagneticDrum">
            <a:avLst/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771640" y="234936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3366"/>
                </a:solidFill>
                <a:latin typeface="Arial"/>
              </a:rPr>
              <a:t>EJ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 rot="5400000">
            <a:off x="1546560" y="4437720"/>
            <a:ext cx="2087640" cy="35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DIMENSIÓ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WordArt 18"/>
          <p:cNvSpPr txBox="1"/>
          <p:nvPr/>
        </p:nvSpPr>
        <p:spPr>
          <a:xfrm rot="5400000">
            <a:off x="3202560" y="4437720"/>
            <a:ext cx="2087640" cy="35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DIMENSIÓ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19"/>
          <p:cNvSpPr txBox="1"/>
          <p:nvPr/>
        </p:nvSpPr>
        <p:spPr>
          <a:xfrm rot="5400000">
            <a:off x="4932720" y="4437720"/>
            <a:ext cx="2087640" cy="35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DIMENSIÓ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6732720" y="342900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6948360" y="3645000"/>
            <a:ext cx="720720" cy="21564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6659640" y="3645000"/>
            <a:ext cx="720720" cy="21564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AutoShape 23"/>
          <p:cNvSpPr/>
          <p:nvPr/>
        </p:nvSpPr>
        <p:spPr>
          <a:xfrm>
            <a:off x="6588000" y="386064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24"/>
          <p:cNvSpPr/>
          <p:nvPr/>
        </p:nvSpPr>
        <p:spPr>
          <a:xfrm>
            <a:off x="6948360" y="407664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6948360" y="472428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6877080" y="429264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AutoShape 27"/>
          <p:cNvSpPr/>
          <p:nvPr/>
        </p:nvSpPr>
        <p:spPr>
          <a:xfrm>
            <a:off x="6877080" y="4508640"/>
            <a:ext cx="720720" cy="21564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6588000" y="494172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7020000" y="5589720"/>
            <a:ext cx="720720" cy="21564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6588000" y="407664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AutoShape 31"/>
          <p:cNvSpPr/>
          <p:nvPr/>
        </p:nvSpPr>
        <p:spPr>
          <a:xfrm>
            <a:off x="6516720" y="429264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AutoShape 32"/>
          <p:cNvSpPr/>
          <p:nvPr/>
        </p:nvSpPr>
        <p:spPr>
          <a:xfrm>
            <a:off x="6516720" y="4508640"/>
            <a:ext cx="720720" cy="21564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AutoShape 33"/>
          <p:cNvSpPr/>
          <p:nvPr/>
        </p:nvSpPr>
        <p:spPr>
          <a:xfrm>
            <a:off x="6516720" y="472428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>
            <a:off x="6588000" y="515772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AutoShape 35"/>
          <p:cNvSpPr/>
          <p:nvPr/>
        </p:nvSpPr>
        <p:spPr>
          <a:xfrm>
            <a:off x="6659640" y="537372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6804000" y="5734080"/>
            <a:ext cx="720720" cy="21600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AutoShape 41"/>
          <p:cNvSpPr/>
          <p:nvPr/>
        </p:nvSpPr>
        <p:spPr>
          <a:xfrm>
            <a:off x="6732720" y="5589720"/>
            <a:ext cx="720720" cy="215640"/>
          </a:xfrm>
          <a:prstGeom prst="flowChartMagneticDrum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WordArt 44"/>
          <p:cNvSpPr txBox="1"/>
          <p:nvPr/>
        </p:nvSpPr>
        <p:spPr>
          <a:xfrm rot="5400000">
            <a:off x="7528680" y="4502880"/>
            <a:ext cx="200484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INDICADORES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Line 45"/>
          <p:cNvSpPr/>
          <p:nvPr/>
        </p:nvSpPr>
        <p:spPr>
          <a:xfrm flipH="1" flipV="1">
            <a:off x="7667640" y="3573360"/>
            <a:ext cx="649440" cy="43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46"/>
          <p:cNvSpPr/>
          <p:nvPr/>
        </p:nvSpPr>
        <p:spPr>
          <a:xfrm flipH="1" flipV="1">
            <a:off x="7235640" y="4149720"/>
            <a:ext cx="1081080" cy="71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47"/>
          <p:cNvSpPr/>
          <p:nvPr/>
        </p:nvSpPr>
        <p:spPr>
          <a:xfrm flipH="1">
            <a:off x="7164000" y="4437000"/>
            <a:ext cx="10796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48"/>
          <p:cNvSpPr/>
          <p:nvPr/>
        </p:nvSpPr>
        <p:spPr>
          <a:xfrm flipH="1">
            <a:off x="7524720" y="4797360"/>
            <a:ext cx="719280" cy="7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49"/>
          <p:cNvSpPr/>
          <p:nvPr/>
        </p:nvSpPr>
        <p:spPr>
          <a:xfrm flipH="1">
            <a:off x="7524720" y="5084640"/>
            <a:ext cx="719280" cy="14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50"/>
          <p:cNvSpPr/>
          <p:nvPr/>
        </p:nvSpPr>
        <p:spPr>
          <a:xfrm flipH="1">
            <a:off x="7236000" y="551664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Objetivos de los Map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2577960"/>
            <a:ext cx="7704000" cy="4235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efinir  un marco de referencia comú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identificar logros y necesidades particulares de aprendizaje de los alumn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ara monitorear en determinados momentos la cercanía o lejanía de los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udiantes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pecto a las expectativas nacionales de logro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9" descr="MCj03355240000[1]"/>
          <p:cNvPicPr/>
          <p:nvPr/>
        </p:nvPicPr>
        <p:blipFill>
          <a:blip r:embed="rId1"/>
          <a:stretch/>
        </p:blipFill>
        <p:spPr>
          <a:xfrm>
            <a:off x="7093080" y="260280"/>
            <a:ext cx="1819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Objetivos de los Map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ar una visión del subsector a lo largo de toda la experiencia escolar de primero básico a cuarto medi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ar una visión concisa de los dominios de aprendizaje centrales de cada subsector y orientar lo que es importante evalu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5" descr="MCj03384820000[1]"/>
          <p:cNvPicPr/>
          <p:nvPr/>
        </p:nvPicPr>
        <p:blipFill>
          <a:blip r:embed="rId1"/>
          <a:stretch/>
        </p:blipFill>
        <p:spPr>
          <a:xfrm>
            <a:off x="826920" y="5157720"/>
            <a:ext cx="1690920" cy="1700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MCj03384880000[1]"/>
          <p:cNvPicPr/>
          <p:nvPr/>
        </p:nvPicPr>
        <p:blipFill>
          <a:blip r:embed="rId2"/>
          <a:stretch/>
        </p:blipFill>
        <p:spPr>
          <a:xfrm>
            <a:off x="3708360" y="5064120"/>
            <a:ext cx="1593720" cy="1793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MCj03384860000[1]"/>
          <p:cNvPicPr/>
          <p:nvPr/>
        </p:nvPicPr>
        <p:blipFill>
          <a:blip r:embed="rId3"/>
          <a:stretch/>
        </p:blipFill>
        <p:spPr>
          <a:xfrm>
            <a:off x="2843280" y="5445000"/>
            <a:ext cx="738000" cy="141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MCj03329700000[1]"/>
          <p:cNvPicPr/>
          <p:nvPr/>
        </p:nvPicPr>
        <p:blipFill>
          <a:blip r:embed="rId4"/>
          <a:stretch/>
        </p:blipFill>
        <p:spPr>
          <a:xfrm>
            <a:off x="5867280" y="4930920"/>
            <a:ext cx="2233800" cy="1927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MCj03704300000[1]"/>
          <p:cNvPicPr/>
          <p:nvPr/>
        </p:nvPicPr>
        <p:blipFill>
          <a:blip r:embed="rId5"/>
          <a:stretch/>
        </p:blipFill>
        <p:spPr>
          <a:xfrm>
            <a:off x="7740720" y="4581360"/>
            <a:ext cx="1182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Objetivos de los Map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26920" y="28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n la práctica cotidiana 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 trata  que el profesor, sepa de antemano qué aprendizajes deberán dominar sus alumnos en un nivel y año determinad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19"/>
          <p:cNvSpPr/>
          <p:nvPr/>
        </p:nvSpPr>
        <p:spPr>
          <a:xfrm>
            <a:off x="2195640" y="3213000"/>
            <a:ext cx="5616360" cy="25923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1258920" y="3789360"/>
            <a:ext cx="1728720" cy="1152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Integra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2916360" y="2637000"/>
            <a:ext cx="1728720" cy="1152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Respe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ocio cultur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564000" y="3933720"/>
            <a:ext cx="2736720" cy="11527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 Black"/>
              </a:rPr>
              <a:t>Refer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5003640" y="2637000"/>
            <a:ext cx="1729080" cy="1152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volu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6659640" y="3573360"/>
            <a:ext cx="1728720" cy="11527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Infraestruc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Oval 9"/>
          <p:cNvSpPr/>
          <p:nvPr/>
        </p:nvSpPr>
        <p:spPr>
          <a:xfrm>
            <a:off x="4427640" y="5300640"/>
            <a:ext cx="1728720" cy="11527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ap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6443640" y="5013360"/>
            <a:ext cx="1728720" cy="1152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xtranjero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2195640" y="5084640"/>
            <a:ext cx="1728720" cy="11527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lanes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rogra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539640" y="620640"/>
            <a:ext cx="82090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Qué elementos son considerados  en su Elaboració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0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1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8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29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2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3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43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4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ntecedent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Marcos curriculares interna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anadá,     Australia,        EEUU,                    Españ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Normativa nacional, marcos curric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nacional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Picture 4" descr="mapa%20canad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800" y="3284640"/>
            <a:ext cx="193356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mapa_izq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05040" y="3295800"/>
            <a:ext cx="1579680" cy="1573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mapaUSA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386240" y="3357720"/>
            <a:ext cx="2417760" cy="1482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mapa-espan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0080" y="3213000"/>
            <a:ext cx="1754280" cy="15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mapa_chile"/>
          <p:cNvPicPr/>
          <p:nvPr/>
        </p:nvPicPr>
        <p:blipFill>
          <a:blip r:embed="rId9"/>
          <a:stretch/>
        </p:blipFill>
        <p:spPr>
          <a:xfrm>
            <a:off x="7308720" y="5300640"/>
            <a:ext cx="482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apas de Progreso Canadi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Tres Ejes Temátic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ov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Vida A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a Responsabilidad Individual y soc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4" descr="j0335112"/>
          <p:cNvPicPr/>
          <p:nvPr/>
        </p:nvPicPr>
        <p:blipFill>
          <a:blip r:embed="rId1"/>
          <a:stretch/>
        </p:blipFill>
        <p:spPr>
          <a:xfrm>
            <a:off x="7885080" y="3333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5651640" y="4240080"/>
            <a:ext cx="2717640" cy="2041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1476360" y="4941720"/>
            <a:ext cx="15922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7777440" cy="57070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5"/>
          <p:cNvSpPr txBox="1"/>
          <p:nvPr/>
        </p:nvSpPr>
        <p:spPr>
          <a:xfrm>
            <a:off x="1403280" y="620640"/>
            <a:ext cx="5400720" cy="29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113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ponsabilidad personal y soc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0" name="WordArt 7"/>
          <p:cNvSpPr txBox="1"/>
          <p:nvPr/>
        </p:nvSpPr>
        <p:spPr>
          <a:xfrm rot="13959600">
            <a:off x="699840" y="4314240"/>
            <a:ext cx="2741400" cy="140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vi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1" name="WordArt 8"/>
          <p:cNvSpPr txBox="1"/>
          <p:nvPr/>
        </p:nvSpPr>
        <p:spPr>
          <a:xfrm rot="7252800">
            <a:off x="4798800" y="4641840"/>
            <a:ext cx="27129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a Acti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826920" y="83664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ntecedentes Generales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55640" y="275436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proyecto esta diseñado por la Unidad de Currículum y Evaluación del MINEDU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pone definir estándares nacionales de Educación y un sistema asociado a la evalu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reescolar.wmv" descr=""/>
          <p:cNvPicPr/>
          <p:nvPr/>
        </p:nvPicPr>
        <p:blipFill>
          <a:blip r:embed="rId1"/>
          <a:stretch/>
        </p:blipFill>
        <p:spPr>
          <a:xfrm>
            <a:off x="4788000" y="4641840"/>
            <a:ext cx="31496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apa Australi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08000" y="1965240"/>
            <a:ext cx="4753080" cy="4248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j0335112"/>
          <p:cNvPicPr/>
          <p:nvPr/>
        </p:nvPicPr>
        <p:blipFill>
          <a:blip r:embed="rId2"/>
          <a:stretch/>
        </p:blipFill>
        <p:spPr>
          <a:xfrm>
            <a:off x="7885080" y="3333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4643280" y="5286240"/>
            <a:ext cx="4500720" cy="15717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4533840" y="2886120"/>
            <a:ext cx="461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Conocimiento y entendimi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99"/>
                </a:solidFill>
                <a:latin typeface="Arial"/>
              </a:rPr>
              <a:t>Actitudes y val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3. Habilidades para la Actividad Fís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4. Habilidades de Automane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5. Habilidades Interperson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4"/>
          <p:cNvSpPr/>
          <p:nvPr/>
        </p:nvSpPr>
        <p:spPr>
          <a:xfrm>
            <a:off x="826920" y="2421000"/>
            <a:ext cx="8066160" cy="720720"/>
          </a:xfrm>
          <a:prstGeom prst="flowChartMagneticDrum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SA UNA VARIEDAD DE FORMAS BÁS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Y AVANZADAS DE MOVIMIENT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826920" y="3284640"/>
            <a:ext cx="8066160" cy="720720"/>
          </a:xfrm>
          <a:prstGeom prst="flowChartMagneticDrum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TILIZA CONCEPTOS Y PRINCIPIO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 EL DESARROLLO DE HABILIDADES MOTOR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755640" y="4148280"/>
            <a:ext cx="8066160" cy="720720"/>
          </a:xfrm>
          <a:prstGeom prst="flowChartMagneticDrum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TIENDE LOS BENEFICIOS Y COSTOS ASOCI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 LA PARTICIPACIÓN EN ACTIVIDAD FÍS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900000" y="5013360"/>
            <a:ext cx="8066160" cy="720720"/>
          </a:xfrm>
          <a:prstGeom prst="flowChartMagneticDrum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TIENDE COMO MONITOREAR Y MANTENER U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NIVEL DE ESTADO FISICO QUE MEJORE LA SALU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826920" y="5877000"/>
            <a:ext cx="8066160" cy="720720"/>
          </a:xfrm>
          <a:prstGeom prst="flowChartMagneticDrum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TIENDE LA RESPONSABILIDAD SOCIA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SOCIADA A LA PARTICIPACIÓN EN ACTIVIDAD FISICA.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755640" y="83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STANDARES Y PUNTOS DE REFERENCIA PARA LA ASIGNATURA EDUCACIÓN FÍSICA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N EL ESTADO DE OHIO, EEU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Picture 11" descr="j0335112"/>
          <p:cNvPicPr/>
          <p:nvPr/>
        </p:nvPicPr>
        <p:blipFill>
          <a:blip r:embed="rId1"/>
          <a:stretch/>
        </p:blipFill>
        <p:spPr>
          <a:xfrm>
            <a:off x="8101080" y="189000"/>
            <a:ext cx="75096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STANDARES Y PUNTOS DE REFERENCIA PARA LA ASIGNATURA EDUCACIÓN FÍSICA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EN EL ESTADO DE OHIO, EEUU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26920" y="2421000"/>
            <a:ext cx="8066160" cy="720720"/>
          </a:xfrm>
          <a:prstGeom prst="flowChartMagneticDrum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SA UNA VARIEDAD DE FORMAS BÁS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Y AVANZADAS DE MOVIMIENT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042920" y="3237120"/>
            <a:ext cx="79218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NIVEL 1 (Grado K –2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una variedad de movimientos locomotrices básicos. (Ej. Correr, skiping, salto a pies juntos, galopar, resbalar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una variedad de habilidades No locomotoras básicas. (Ej. Doblarse, girar en uno o ambos pies, estirarse, rotar, levantar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una variedad de habilidades de control de objetos. (Ej. Lanzar por abajo y por sobre la cabeza, atrape, conducción de mano y de pie, patear, golpear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combinaciones simples de habilidades fundamentales de movimiento. (Ej. Locomotrices, No locomotrices, control de objetos, control del cuerpo y habilidades rítmicas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control en actividades con soporte de pesos en distintas partes del cuerpo. (Ej. saltos y caídas con uno o dos pies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control en actividades de equilibrio en una variedad de partes del cuerpo ( Ej. Un pie, una mano y un pie, manos y rodillas, trípode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control en actividades de traslado en variedad de planos del cuerpo (Ej. Desplazarse de espaldas en diferentes direcciones con cambios rápidos y seguros sin caerse; cambia velocidades y dirección en respuesta a varios ritmos, combina patrones de traslado a la músic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transiciones suaves entre habilidades motrices secuenciales. (Ej. correr y saltar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Usa habilidades motrices en patrones rítmicos por igual, rápido lento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LANES ESPAÑO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DIMENSIONES o EJES CURRICUL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4" descr="j0335112"/>
          <p:cNvPicPr/>
          <p:nvPr/>
        </p:nvPicPr>
        <p:blipFill>
          <a:blip r:embed="rId1"/>
          <a:stretch/>
        </p:blipFill>
        <p:spPr>
          <a:xfrm>
            <a:off x="144360" y="152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900000" y="306612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del Cuer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abilidades y Destrez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Cuerpo en Movimient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o        de comunicación y expresió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s Jueg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Análisis de cuadros de Mapas o Programas de Desarrollo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2760"/>
                <a:gridCol w="2008080"/>
                <a:gridCol w="1881000"/>
                <a:gridCol w="188136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USTRALIAN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NADIEN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PA US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OHIO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J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MENSION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 considera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 considera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IVEL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structura en constr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755640" y="2421000"/>
            <a:ext cx="6696000" cy="136836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Vida activ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aspectos Cognitivos teóric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55640" y="3860640"/>
            <a:ext cx="6696000" cy="1368720"/>
          </a:xfrm>
          <a:prstGeom prst="flowChartMagneticDrum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petencia motriz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aspectos Cognitivo motri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755640" y="5300640"/>
            <a:ext cx="6696000" cy="1368360"/>
          </a:xfrm>
          <a:prstGeom prst="flowChartMagneticDrum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ponsabilidad personal y so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(aspectos afectivos soci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Picture 9" descr="mapa_chile"/>
          <p:cNvPicPr/>
          <p:nvPr/>
        </p:nvPicPr>
        <p:blipFill>
          <a:blip r:embed="rId1"/>
          <a:stretch/>
        </p:blipFill>
        <p:spPr>
          <a:xfrm>
            <a:off x="7524720" y="2276640"/>
            <a:ext cx="1619280" cy="4581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MCj03341820000[1]"/>
          <p:cNvPicPr/>
          <p:nvPr/>
        </p:nvPicPr>
        <p:blipFill>
          <a:blip r:embed="rId2"/>
          <a:stretch/>
        </p:blipFill>
        <p:spPr>
          <a:xfrm>
            <a:off x="7812000" y="333360"/>
            <a:ext cx="666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3781440" y="3103560"/>
            <a:ext cx="158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ACIA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99"/>
                                      </p:to>
                                    </p:animClr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99"/>
                                      </p:to>
                                    </p:animClr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128600" y="90792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opósito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4360" y="220500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Se espera ofrecer una herramienta de apoyo docente que haga explícito los logros de aprendizaje y el progreso a lo largo de toda la trayectoria esco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96960" y="10224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opósit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971640" y="24382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 centrado en el alumno, quiere expresar con mayor claridad qué se espera que aprendan, ilustrando con muestras y ejemplos los aprendizajes fundamentales para distintos niveles de la trayectoria escol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298600"/>
            <a:ext cx="7272360" cy="4559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¿Qué es un Mapa de Progres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2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s mapas de progreso son una herramienta que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scribe en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orma concisa el crecimiento (secuencia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ípica) del aprendizaje en nive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on marcos de referencia contra los cuales el logro y el avance pueden ser monitoreados y reportados en el tiemp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 descripción se acompaña de ejemplos de trabajo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umnos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e ilustran el aprendizaje característico de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da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7640" y="834120"/>
            <a:ext cx="8146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¿Cual es la función  de los Mapas de Progreso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cribir el progreso del aprendiza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rganizar en ejes temáticos los diferentes niveles educativ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finir lo que se espera que los alumnos sepan comprendan y sean capaces de hac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ervir de base para desarrollar futuros ajustes curriculares al sub-sec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formar estándares de desempeñ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stándar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3009960"/>
            <a:ext cx="7693200" cy="24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n el elemento curricular que aún falta para completar la elaboración del conjunto de instrumentos curriculares de la reforma educa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stánd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4"/>
          <p:cNvGrpSpPr/>
          <p:nvPr/>
        </p:nvGrpSpPr>
        <p:grpSpPr>
          <a:xfrm>
            <a:off x="826920" y="2368440"/>
            <a:ext cx="7692480" cy="3723480"/>
            <a:chOff x="826920" y="2368440"/>
            <a:chExt cx="7692480" cy="3723480"/>
          </a:xfrm>
        </p:grpSpPr>
        <p:cxnSp>
          <p:nvCxnSpPr>
            <p:cNvPr id="124" name="_s1028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5648400" y="2884680"/>
              <a:ext cx="745200" cy="2689920"/>
            </a:xfrm>
            <a:prstGeom prst="bentConnector3">
              <a:avLst>
                <a:gd name="adj1" fmla="val 13001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7" name="_s1029"/>
            <p:cNvCxnSpPr>
              <a:stCxn id="128" idx="0"/>
              <a:endCxn id="126" idx="2"/>
            </p:cNvCxnSpPr>
            <p:nvPr/>
          </p:nvCxnSpPr>
          <p:spPr>
            <a:xfrm flipV="1">
              <a:off x="4676400" y="3857400"/>
              <a:ext cx="288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9" name="_s1030"/>
            <p:cNvCxnSpPr>
              <a:stCxn id="130" idx="0"/>
              <a:endCxn id="126" idx="2"/>
            </p:cNvCxnSpPr>
            <p:nvPr/>
          </p:nvCxnSpPr>
          <p:spPr>
            <a:xfrm flipH="1" flipV="1" rot="5400000">
              <a:off x="2955600" y="2881800"/>
              <a:ext cx="745200" cy="2696040"/>
            </a:xfrm>
            <a:prstGeom prst="bentConnector3">
              <a:avLst>
                <a:gd name="adj1" fmla="val 13001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26" name="_s1031"/>
            <p:cNvSpPr/>
            <p:nvPr/>
          </p:nvSpPr>
          <p:spPr>
            <a:xfrm>
              <a:off x="3519360" y="236844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Instrumento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de apoyo al docent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1032"/>
            <p:cNvSpPr/>
            <p:nvPr/>
          </p:nvSpPr>
          <p:spPr>
            <a:xfrm>
              <a:off x="826920" y="460260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Mejore la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capacidad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de planificació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1033"/>
            <p:cNvSpPr/>
            <p:nvPr/>
          </p:nvSpPr>
          <p:spPr>
            <a:xfrm>
              <a:off x="3519360" y="460260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Mejore capacida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de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evaluación de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evidencia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1034"/>
            <p:cNvSpPr/>
            <p:nvPr/>
          </p:nvSpPr>
          <p:spPr>
            <a:xfrm>
              <a:off x="6211800" y="460260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Mejorará la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evaluació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3366"/>
                  </a:solidFill>
                  <a:latin typeface="Arial"/>
                </a:rPr>
                <a:t>del SIMC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1" name="Picture 15" descr="MCj02405470000[1]"/>
          <p:cNvPicPr/>
          <p:nvPr/>
        </p:nvPicPr>
        <p:blipFill>
          <a:blip r:embed="rId1"/>
          <a:stretch/>
        </p:blipFill>
        <p:spPr>
          <a:xfrm>
            <a:off x="1619280" y="2565360"/>
            <a:ext cx="11206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MMj03034840000[1]"/>
          <p:cNvPicPr/>
          <p:nvPr/>
        </p:nvPicPr>
        <p:blipFill>
          <a:blip r:embed="rId2"/>
          <a:stretch/>
        </p:blipFill>
        <p:spPr>
          <a:xfrm>
            <a:off x="971640" y="5805360"/>
            <a:ext cx="857160" cy="7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Cj02300830000[1]"/>
          <p:cNvPicPr/>
          <p:nvPr/>
        </p:nvPicPr>
        <p:blipFill>
          <a:blip r:embed="rId3"/>
          <a:stretch/>
        </p:blipFill>
        <p:spPr>
          <a:xfrm>
            <a:off x="3276720" y="5902200"/>
            <a:ext cx="1069920" cy="95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MCj02151320000[1]"/>
          <p:cNvPicPr/>
          <p:nvPr/>
        </p:nvPicPr>
        <p:blipFill>
          <a:blip r:embed="rId4"/>
          <a:stretch/>
        </p:blipFill>
        <p:spPr>
          <a:xfrm>
            <a:off x="7885080" y="5734080"/>
            <a:ext cx="9367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stánd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Estándares de contenid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¿Qué esperamos que nuestros alumnos sepan, comprendan, sean capaces de hacer y valor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Estándares de desempeñ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¿Cuán bueno debe ser el desempeño de un alumno en una determinada edad, curso o etapa de su escolarida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21:54:18Z</dcterms:created>
  <dc:creator>unab</dc:creator>
  <dc:description/>
  <dc:language>en-US</dc:language>
  <cp:lastModifiedBy>Asignatura</cp:lastModifiedBy>
  <dcterms:modified xsi:type="dcterms:W3CDTF">2011-05-17T13:49:47Z</dcterms:modified>
  <cp:revision>30</cp:revision>
  <dc:subject/>
  <dc:title>Mapa de Progreso Actividad Física y Salud</dc:title>
</cp:coreProperties>
</file>